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636-AEF1-46FD-A83C-14436C73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22C-465E-4877-99BC-7C0AC5C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712-9F97-49B7-8AB0-7CBF45F7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BBB-CA68-4BB1-95A6-74A5C483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CEE1-818E-41D0-8191-C2E02F58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4AE1-1F5B-40BF-B09B-AAB95E82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2AF0-0770-483D-9F5E-74017425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18CE-153A-4299-95AD-F72408E1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8C90-9713-4236-A0E6-AB2CB6F3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53AB-1383-41D4-A322-0898BAF6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3224-EC7D-4C10-8E64-234A57A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E68-F382-4821-9178-8EB4928B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F4A-B9C3-4C9E-B9CF-6637EAB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6F01-5FB7-4E05-852B-D09EFCE4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ADD-19BF-45BA-A5BA-8C0AD85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894E-DA22-4250-AD52-0837AD41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64BA-74BC-4F20-AD6D-364DDA83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753-A2F5-4E45-B21C-3CC6AB55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940-6453-46F7-AD88-4076B6F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243-D73A-4296-92A4-1159D507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787-BFED-4077-BB72-4206ABA9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944-21C6-42BA-A9B3-AB89CDA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694-8797-42C6-A5D7-AD3ACD1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10E-25AB-42B7-80A1-6710DA8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AC8D-2577-4664-8070-19AE5E5B9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EBB9-D1E7-437C-9F38-D6BB1BA93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fe as a slave working in the hou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Paige Sut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many hours did slaves work in the hou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on call 24/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barley get a bre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et call about the same hours every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many times did the slaves cook a day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to cook whenever they say to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to cook certain dinners for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d they have to take care of the kid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ay that they are to old to take care of there kids so they need some teen slaves to take care of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hink they don’t have to take care of there kids when they get sla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re I got my inf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answers.yahoo.com/search/search_result;_ylt=Aoky8Heqt4QmzDU21HXlXrojzK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41:47Z</dcterms:created>
  <dc:creator>teacher</dc:creator>
  <dc:description/>
  <dc:language>en-US</dc:language>
  <cp:lastModifiedBy>teacher</cp:lastModifiedBy>
  <dcterms:modified xsi:type="dcterms:W3CDTF">2010-01-12T18:25:38Z</dcterms:modified>
  <cp:revision>3</cp:revision>
  <dc:subject/>
  <dc:title>Life as a slave working in the house</dc:title>
</cp:coreProperties>
</file>